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DDD-8417-4FD5-B1B9-CEF81311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71A9-10EF-4A31-B3EC-91C03305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1950-4709-48C0-8AC8-AA915E95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0EA-F5C9-4C3C-BA44-0890650E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3B2-967B-4326-9E78-0F341C47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D42-C350-4784-9118-F1F8489E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691-F568-41E4-9C84-5A9804E7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6E4-0F9E-4BD7-8458-3F7026E4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073-5254-477E-88BE-1B2245FE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2605-C0B5-450A-8879-2A29DA91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BB0-480D-4B05-A003-B8F1649F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3F88-B3F0-4FE6-A0A5-BF1FE783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3393-3A0B-4E08-B4BF-5B7BED7C448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youtube.com/watch?v=3QuztuwAa4o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6711840" cy="4176720"/>
          </a:xfrm>
          <a:prstGeom prst="rect">
            <a:avLst/>
          </a:prstGeom>
          <a:ln w="0">
            <a:noFill/>
          </a:ln>
        </p:spPr>
      </p:pic>
      <p:sp>
        <p:nvSpPr>
          <p:cNvPr id="42" name="2 CuadroTexto"/>
          <p:cNvSpPr/>
          <p:nvPr/>
        </p:nvSpPr>
        <p:spPr>
          <a:xfrm>
            <a:off x="1403280" y="537372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oesía amorosa del siglo XVI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ES La Rosaleda (Málag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9:13:26Z</dcterms:created>
  <dc:creator>Mari</dc:creator>
  <dc:description/>
  <dc:language>en-US</dc:language>
  <cp:lastModifiedBy>Mari</cp:lastModifiedBy>
  <dcterms:modified xsi:type="dcterms:W3CDTF">2015-04-21T19:25:13Z</dcterms:modified>
  <cp:revision>1</cp:revision>
  <dc:subject/>
  <dc:title>Diapositiva 1</dc:title>
</cp:coreProperties>
</file>